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B30-5968-4D26-8947-8D821D18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16B-22F0-4679-AC81-CDF07EC9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0C6-8E8F-4AD7-B7C2-84D1625C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5B8-3917-44EF-89C1-8681330D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686-5BCB-4DA1-8A7F-A1F75009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720-E018-4B07-BA78-2FA3F05E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022-C3F3-4C56-819A-DA819114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377-4963-43ED-AABF-A762B6C8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05A-5993-4AD6-B01A-08BC3E1B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0EAF-9E62-4718-8DED-428E23EC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72F-7A7A-45F9-87C5-786B887C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C1E-B1C2-4C66-842F-08F36C19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A7AA-29B1-4030-B73C-8F686ACA0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4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677160" cy="6964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ussia in Revolu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3733920"/>
            <a:ext cx="6933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forget, your Stalin Study Guide is due THURSDA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ahem*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quiz *ahem*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4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677160" cy="6964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ussia in Revolu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7720" y="289548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da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itarianis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Earwig Facto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Earwig Factory"/>
              </a:rPr>
              <a:t>MYTHBUST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Life in Stalin’s U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g, that quiz…ma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Guide f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Mon. 3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T SAYS to use 3x5 notecard, hand-written, BUT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write whatever you want on you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llow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eview Gui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use that. Hand-written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523880"/>
            <a:ext cx="6934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l_fi" descr=""/>
          <p:cNvPicPr/>
          <p:nvPr/>
        </p:nvPicPr>
        <p:blipFill>
          <a:blip r:embed="rId1"/>
          <a:stretch/>
        </p:blipFill>
        <p:spPr>
          <a:xfrm>
            <a:off x="-457200" y="96840"/>
            <a:ext cx="1013472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3146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28960" y="4568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talin &amp; Nikolai Yezho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4800600" cy="3146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4800600" cy="3143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320" y="1828800"/>
            <a:ext cx="4038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Nikolai Yezho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“Commissar for State Security” Senior official of the Soviet secret police under Stali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ssisted in the Great Purge of the Communist Party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Was TOO POPULAR with the Party members, Stalin got suspiciou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rrested and accused of being a spy and plotting to assassinate Stalin.  Sent to a work camp.  Executed secretly in 194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l_fi" descr=""/>
          <p:cNvPicPr/>
          <p:nvPr/>
        </p:nvPicPr>
        <p:blipFill>
          <a:blip r:embed="rId1"/>
          <a:stretch/>
        </p:blipFill>
        <p:spPr>
          <a:xfrm>
            <a:off x="-380880" y="0"/>
            <a:ext cx="1013436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677160" cy="6964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ussia in Revolu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7720" y="289548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da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itarianis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Earwig Facto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Earwig Factory"/>
              </a:rPr>
              <a:t>MYTHBUST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Life in Stalin’s U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g, that quiz…ma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Guide f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Mon. 3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T SAYS to use 3x5 notecard, hand-written, BUT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write whatever you want on you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llow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eview Gui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use that. Hand-written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523880"/>
            <a:ext cx="6934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3:54:54Z</dcterms:created>
  <dc:creator>MCPASD</dc:creator>
  <dc:description/>
  <dc:language>en-US</dc:language>
  <cp:lastModifiedBy>MCPASD</cp:lastModifiedBy>
  <dcterms:modified xsi:type="dcterms:W3CDTF">2012-02-28T19:24:21Z</dcterms:modified>
  <cp:revision>9</cp:revision>
  <dc:subject/>
  <dc:title>Russia in Revolution!</dc:title>
</cp:coreProperties>
</file>